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561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99360" indent="-99360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99360" indent="-99360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99360" indent="-99360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99360" indent="-99360" algn="ctr">
              <a:buClr>
                <a:srgbClr val="404140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9360" indent="-9936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9360" indent="-9936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9360" indent="-9936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2520" indent="-925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92520" indent="-9252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520" indent="-9252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92520" indent="-9252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sba.gov/busplantemplate/BizPlanStart.cf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78eff"/>
                </a:solidFill>
                <a:latin typeface="Garamond"/>
                <a:ea typeface="Garamond"/>
              </a:rPr>
              <a:t>Starting a Small Business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55320" y="2171520"/>
            <a:ext cx="122936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14141"/>
                </a:solidFill>
                <a:latin typeface="Garamond"/>
                <a:ea typeface="Garamond"/>
              </a:rPr>
              <a:t>An Idea plus Experience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14141"/>
                </a:solidFill>
                <a:latin typeface="Garamond"/>
                <a:ea typeface="Garamond"/>
              </a:rPr>
              <a:t>Right Location/Right Timing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14141"/>
                </a:solidFill>
                <a:latin typeface="Garamond"/>
                <a:ea typeface="Garamond"/>
              </a:rPr>
              <a:t>Team Approach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14141"/>
                </a:solidFill>
                <a:latin typeface="Garamond"/>
                <a:ea typeface="Garamond"/>
              </a:rPr>
              <a:t>Preparation and Research</a:t>
            </a: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HE BUSINESS PLAN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55320" y="2273040"/>
            <a:ext cx="12293640" cy="219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 written description of the business idea and the activities needed to carry it out.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ambria"/>
                <a:ea typeface="Cambria"/>
                <a:hlinkClick r:id="rId2"/>
              </a:rPr>
              <a:t>http://web.sba.gov/busplantemplate/BizPlanStart.cfm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2206080" y="4973400"/>
            <a:ext cx="9392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Executive Summary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Business Description and Vision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Definition of the Market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Description of Products and Services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Organization and Management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Marketing and Sales Strategy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buClr>
                <a:srgbClr val="2d8cff"/>
              </a:buClr>
              <a:buSzPct val="12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8cff"/>
                </a:solidFill>
                <a:latin typeface="Gill Sans Light"/>
                <a:ea typeface="Gill Sans Light"/>
              </a:rPr>
              <a:t>Financial Management</a:t>
            </a: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SWOT ANALYSI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55320" y="2361960"/>
            <a:ext cx="12293640" cy="631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317520">
              <a:lnSpc>
                <a:spcPct val="100000"/>
              </a:lnSpc>
              <a:spcBef>
                <a:spcPts val="3801"/>
              </a:spcBef>
              <a:buClr>
                <a:srgbClr val="0044fe"/>
              </a:buClr>
              <a:buFont typeface="Lucida Grande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S</a:t>
            </a:r>
            <a:r>
              <a:rPr b="1" lang="en-US" sz="3600" spc="-1" strike="noStrike" u="sng">
                <a:solidFill>
                  <a:srgbClr val="343434"/>
                </a:solidFill>
                <a:uFillTx/>
                <a:latin typeface="Lucida Grande"/>
                <a:ea typeface="Lucida Grande"/>
              </a:rPr>
              <a:t>trengths:</a:t>
            </a:r>
            <a:r>
              <a:rPr b="1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 </a:t>
            </a:r>
            <a:r>
              <a:rPr b="0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characteristics of the organization that are useful to attain the objective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457200" indent="-317520">
              <a:lnSpc>
                <a:spcPct val="100000"/>
              </a:lnSpc>
              <a:spcBef>
                <a:spcPts val="3801"/>
              </a:spcBef>
              <a:buClr>
                <a:srgbClr val="0044fe"/>
              </a:buClr>
              <a:buFont typeface="Lucida Grande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W</a:t>
            </a:r>
            <a:r>
              <a:rPr b="1" lang="en-US" sz="3600" spc="-1" strike="noStrike" u="sng">
                <a:solidFill>
                  <a:srgbClr val="343434"/>
                </a:solidFill>
                <a:uFillTx/>
                <a:latin typeface="Lucida Grande"/>
                <a:ea typeface="Lucida Grande"/>
              </a:rPr>
              <a:t>eaknesses:</a:t>
            </a:r>
            <a:r>
              <a:rPr b="1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 </a:t>
            </a:r>
            <a:r>
              <a:rPr b="0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characteristics of the organization that are destructive to achieving the goal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457200" indent="-317520">
              <a:lnSpc>
                <a:spcPct val="100000"/>
              </a:lnSpc>
              <a:spcBef>
                <a:spcPts val="3801"/>
              </a:spcBef>
              <a:buClr>
                <a:srgbClr val="0044fe"/>
              </a:buClr>
              <a:buFont typeface="Lucida Grande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O</a:t>
            </a:r>
            <a:r>
              <a:rPr b="1" lang="en-US" sz="3600" spc="-1" strike="noStrike" u="sng">
                <a:solidFill>
                  <a:srgbClr val="343434"/>
                </a:solidFill>
                <a:uFillTx/>
                <a:latin typeface="Lucida Grande"/>
                <a:ea typeface="Lucida Grande"/>
              </a:rPr>
              <a:t>pportunities:</a:t>
            </a:r>
            <a:r>
              <a:rPr b="1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 </a:t>
            </a:r>
            <a:r>
              <a:rPr b="0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external circumstances that are supportive to realize the objective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marL="457200" indent="-317520">
              <a:lnSpc>
                <a:spcPct val="100000"/>
              </a:lnSpc>
              <a:spcBef>
                <a:spcPts val="3801"/>
              </a:spcBef>
              <a:buClr>
                <a:srgbClr val="0044fe"/>
              </a:buClr>
              <a:buFont typeface="Lucida Grande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600" spc="-1" strike="noStrike" u="sng">
                <a:solidFill>
                  <a:srgbClr val="343434"/>
                </a:solidFill>
                <a:uFillTx/>
                <a:latin typeface="Lucida Grande"/>
                <a:ea typeface="Lucida Grande"/>
              </a:rPr>
              <a:t>hreats:</a:t>
            </a:r>
            <a:r>
              <a:rPr b="1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 </a:t>
            </a:r>
            <a:r>
              <a:rPr b="0" lang="en-US" sz="3600" spc="-1" strike="noStrike">
                <a:solidFill>
                  <a:srgbClr val="343434"/>
                </a:solidFill>
                <a:latin typeface="Lucida Grande"/>
                <a:ea typeface="Lucida Grande"/>
              </a:rPr>
              <a:t>external circumstances that are destructive to achieving the goals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5320" y="254160"/>
            <a:ext cx="122936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888ff"/>
                </a:solidFill>
                <a:latin typeface="Gill Sans Light"/>
              </a:rPr>
              <a:t>FINANCING A SMALL BUSINESS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91880" y="2361960"/>
            <a:ext cx="6527880" cy="387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indent="0">
              <a:lnSpc>
                <a:spcPct val="7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414141"/>
                </a:solidFill>
                <a:uFillTx/>
                <a:latin typeface="Gill Sans"/>
                <a:ea typeface="Gill Sans"/>
              </a:rPr>
              <a:t>Start up Financing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ost of Building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Inventor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uppli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Utiliti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License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>
              <a:lnSpc>
                <a:spcPct val="1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6502320" y="2133720"/>
            <a:ext cx="61214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414141"/>
                </a:solidFill>
                <a:uFillTx/>
                <a:latin typeface="Gill Sans"/>
                <a:ea typeface="Gill Sans"/>
              </a:rPr>
              <a:t>Short-Term Financing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The costs associated with maintaining and operating the business for the first year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3600360" y="6477120"/>
            <a:ext cx="58039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414141"/>
                </a:solidFill>
                <a:uFillTx/>
                <a:latin typeface="Gill Sans"/>
                <a:ea typeface="Gill Sans"/>
              </a:rPr>
              <a:t>Long-Term Financing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Land, Buildings, and other Capital Resources that last for a number of years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414141"/>
                </a:solidFill>
                <a:uFillTx/>
                <a:latin typeface="Gill Sans"/>
                <a:ea typeface="Gill Sans"/>
              </a:rPr>
              <a:t>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avid Combs</cp:lastModifiedBy>
  <dcterms:modified xsi:type="dcterms:W3CDTF">2011-11-29T13:49:38Z</dcterms:modified>
  <cp:revision>1</cp:revision>
  <dc:subject/>
  <dc:title>Starting a Small Business</dc:title>
</cp:coreProperties>
</file>